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5865-47CE-430D-BD87-BE7CD2CC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A0E9-52F8-4888-82AE-C3157DD2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11E5-5753-43EC-84C4-5DE0850F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A969-9E14-4DFC-A4BD-B713D306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8A84-8BA9-4932-A76B-CA5B112C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1C1E-0FD6-4D59-A74F-61A76ECC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C646-52CB-4730-8090-36448B46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8F04-36C9-43F7-8E08-8D0764C2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9D49-73B4-48E0-B536-DA13FE91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B723-9374-4CE4-9E3C-43C5A848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9D00-EC38-4031-A0DE-EED11082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9FC1-3D85-4116-A6ED-4E639BDB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F108-334D-4BBB-B49E-0BC3D099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D901-D56F-422A-BDA4-C0DDCBDE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F900-3AA0-4461-96D4-F90FAC62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E6E5-4797-4741-A4BD-5F4B3032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C7DC-D4F6-4924-92BF-6A0F5246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E2752-0A0C-4393-9791-C884842A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593F8A-3934-4B0A-B1E6-8BCD50A8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1A8A2-E79A-4AAB-9D92-43A50BD0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95D865-976D-4108-AB04-61D4476A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4156C1-0DEA-4B8B-A619-16B1C9C4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484D-301D-4725-9916-CA606343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89C8AB-D286-497A-A195-31E60B00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D1ED64-5BCE-49F0-BBDC-078AA474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0ED191-DEEB-464D-B225-D3F35344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43828-271C-4AE6-8BA9-FAD5D3D6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FF10E-B7FB-4984-9B3A-0B952A40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A6016-09F9-4CF9-9DF3-E3225079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A8448B-350C-403D-AB7A-52098526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C246B3-649C-4DAE-914D-66876741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1EDC21-CB0B-4E5A-A9D7-55B17EF7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9CFED0-1739-4DFF-831E-AC9D785E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8D95-039D-46F7-81B1-A9CC3D73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C67D72-66E8-48D6-9249-23AA4729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3E81FC-2FEA-4320-8A58-BD273639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7332D6-BC73-417B-8343-9FA25963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C87E8B-AA43-4FC7-8224-C937A0FB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64897E-BD73-4E12-A28F-5B45AF6F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467334-B084-4979-9686-BA5D3B1B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91270B-702F-41FE-BC3A-127ADC9A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650D1A-7BF8-485F-A682-68B2A139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A9D42E-1491-4F8B-809E-F7D05233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8FE6FB-8358-4F30-8E2D-9BF9AD20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643B-9C5F-46CA-9F91-F476F81C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59AA2E-C431-4631-9B89-D2D3BE6B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B55FE8-C69A-4B21-8DEC-53F2433D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3523D5-07FD-45FE-90AA-15EEB176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E4F905-B181-4DF1-95FE-AF22B840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4DD4D9-D41E-42B6-9FDE-AFAAAFA5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385FCC-84FB-44A9-A358-8F74B208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948264-AAD0-441A-9F13-AA90CEB5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1BC3E0-0796-456B-9817-47A2360D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81E963-CD26-4F44-9F70-BC95B60E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2D86BE-67DB-46A3-BC85-CC2924FF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9D75-B4E1-4795-A368-E092B4BB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787DD0-C830-4147-A28A-679214E6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15A4B-38BB-4C46-B8F1-97A0CA71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F215E-8082-4F82-BD64-43936891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9C812-F635-49E5-B4FB-0D6BB04B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ED368-76B2-47A3-879B-6DE2A91A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15ADA-93C7-4885-B062-305ECB04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1573B-8E0A-4B4F-A8BB-AFC810C4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14F9F-6206-4F6E-B8DB-9D2A4A96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DC3AA-0C2F-4ABE-95A7-7346FEC9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992BB-E029-47D3-AA79-4F13F439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2571-5094-4F13-A21A-54B8C940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0CF29-BD54-475A-95C2-F49E3D45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33E4C-FEF7-45E5-AA3A-7FA0F0B2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04D6E-5168-41CE-8BCE-337AB791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8FA6E1-D2CF-4C05-9187-978E0EFD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96C97B-2AC7-4047-8C58-28BDA544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9A2A00-D9C3-4B43-B8D8-0A798BFA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6D6EEF-51C5-4200-93C8-07D74186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82EE15-A307-400D-91A2-354B86C5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CF5A2C-A1C5-4479-82BA-F632DD29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19D2FC-64E5-4DA4-A4EA-05441C17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BF75-11AC-4DE6-B04A-1C3FAC14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C7E4F0-ED8B-474F-9797-9CC14407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8B8B0F-1299-402A-9AEF-F11EB8A4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4A0DBB-17F5-4C52-8A10-D223003F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30AE23-0AF9-4C8C-A18F-41714245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47751F-8E2A-4CD0-AB2A-396F5D83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C9A89-AF7B-4767-B2BE-B605BA96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08FAF-CD24-4956-BE40-63777141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B6635-9B60-4A61-A588-A6E72E55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21804-0A9F-4598-804C-E8DE4C31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EFF8B-ADF6-4604-B9DD-68A752A3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E4D7-A06E-4BD0-8597-C0834BDE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4D40C-BB04-4AD4-B1B2-908EF48C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0433C-0BCD-481A-A782-EAA32A72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61AFE-C834-492D-AF55-17F3773F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71C25-6B70-4596-856B-E59CCFE5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313A6-BC09-40FB-A56B-3E7B38A0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1BA88-5E68-4DF4-AB62-55F06CA8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29D39-CFEC-475C-8B00-E05FF86E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74C5-0706-4FF5-B97C-96DE31FB47E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8B13-CB45-453F-929D-183B82469BDE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1B27-B55D-4AE0-A080-30073DFB1593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31A5-A285-4B19-AAC3-EE83228B92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EF09-DBAB-422A-8E20-F99AF4836F8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B2C2-8791-47E3-BDF4-19085FD56477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7236-634C-42C3-A2B9-77D89E5DD44D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AC13-20A7-4620-A4BB-958D63B34E8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75f55"/>
                </a:solidFill>
                <a:latin typeface="Tw Cen MT"/>
              </a:rPr>
              <a:t>File Management </a:t>
            </a:r>
            <a:br>
              <a:rPr sz="12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0" y="1447560"/>
            <a:ext cx="91440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DO NOW…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og on to your compute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o to webopedia.co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ook up the following ter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ctr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ile Management System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TODAY’S AGENDA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arn about File Manage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ve” vs. “Save As” are they the same thing?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Straight Connector 6"/>
          <p:cNvSpPr/>
          <p:nvPr/>
        </p:nvSpPr>
        <p:spPr>
          <a:xfrm>
            <a:off x="0" y="4191120"/>
            <a:ext cx="9144000" cy="144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File Manage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33520" y="213336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The system that an operating system or program uses to organize and keep track of files.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mportant Term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0" y="16002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o manage your files most effectively, you need to become familiar with the following terms: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w Cen MT"/>
              </a:rPr>
              <a:t>Hard Drives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 like a file cabinet that provides storage for the folders that hold your programs, files, mail etc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Drives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tain folders/files  (Drives are identified by letter of the alphabet.)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Folders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tain folders/file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Files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tain the stuff you type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For example: </a:t>
            </a:r>
            <a:br>
              <a:rPr sz="2100"/>
            </a:br>
            <a:r>
              <a:rPr b="1" i="1" lang="en-US" sz="2100" spc="-1" strike="noStrike">
                <a:solidFill>
                  <a:srgbClr val="000000"/>
                </a:solidFill>
                <a:latin typeface="Tw Cen MT"/>
              </a:rPr>
              <a:t>Folders </a:t>
            </a: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can contain files, programs and subfolders. These may be stored on the hard disk drive, your DVD/CD, a network drive, etc.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By creating folders within folders, you build a folder pyramid. You might like to organize your folders according to the type of file each contains or their purpose(Meeting Minutes, Budget Info., and so on).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o Create a New Fold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Option 1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ight-click in an empty space within the folder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hoose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New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Folder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from the pop-up menu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Name the folder and press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Enter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Option 2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lick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Organize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hoose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New Folde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Name the folder and press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Ente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Option 3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lick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Fil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hoose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New, Folde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Name the folder and press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Ente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Save vs. Save As… the same thing???</a:t>
            </a: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NO WAY!!!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0" y="159984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Well, to put it simply, </a:t>
            </a: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Save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will save the current file under the same name in the same location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What does it do??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aves the new changes over the original file you opened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f a file is newly created then Save will open a window allowing you to name the file and choose a save location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t's a simple save of the current information over the old, in the same place with the same nam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On the other hand, </a:t>
            </a: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Save As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will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w Cen MT"/>
              </a:rPr>
              <a:t>always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bring up the Save As window allowing you to change the file name and its save location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ssuming you make a change to name or location, the original file will still be intact in its original location after the Save A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ime Saving Tips!!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 file name should not have more than 64 characters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When naming a file you can use letters of the alphabet, numbers, dashes or underscores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IMPORTANT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: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Never use a period.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 system uses them to separate a file name from the file type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844520" y="1589040"/>
            <a:ext cx="4070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It is best to keep it short and simple. For example: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GOOD: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jan06-minutes.doc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AD: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minutes from the meeting held in jan-06.doc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ave, Save, Save!!!!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et into the practice of saving your work at regular intervals. If you save your work early and often it doesn’t matter if you mess up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How often is often?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en using a word processor, saving after each paragraph is not too frequently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en using another program, such as a graphics editor or a spreadsheet, save after each major change you make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t only takes a second to save a document, so if you turn it into a habit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now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, you’ll avoid headache later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0:11:03Z</dcterms:created>
  <dc:creator>Laura</dc:creator>
  <dc:description/>
  <dc:language>en-US</dc:language>
  <cp:lastModifiedBy>8736</cp:lastModifiedBy>
  <dcterms:modified xsi:type="dcterms:W3CDTF">2009-09-11T14:46:47Z</dcterms:modified>
  <cp:revision>13</cp:revision>
  <dc:subject/>
  <dc:title>File Management</dc:title>
</cp:coreProperties>
</file>